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996-16C8-487B-8711-723266A9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BD4-AE1F-4738-96A6-8831E748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105-18F2-4957-89F9-D281233A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811-E780-4C08-92C2-7B53CE6D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B15-5778-41C6-BFB7-1BFA785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30A-E1FC-4049-940B-6FEF762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D4F-66CE-4E97-9433-42925EEE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92C-D644-46C7-A595-BFCF81EA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4F5-6791-4C67-89F3-ADE165A7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303-0AB6-475D-ACA6-5B3C367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9E2-9B50-43C5-94EE-698EC44F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387-9759-452B-BB17-A0FF8F2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A0ECA-E037-47DC-9DEC-FEBCAC88C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79CAE-C673-437A-B044-2CAD1AFE1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tiempo de Hutchinson, 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nueve de septiemb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8" descr="MM900046572.GIF"/>
          <p:cNvPicPr/>
          <p:nvPr/>
        </p:nvPicPr>
        <p:blipFill>
          <a:blip r:embed="rId1"/>
          <a:srcRect l="0" t="-12053" r="0" b="-12053"/>
          <a:stretch/>
        </p:blipFill>
        <p:spPr>
          <a:xfrm>
            <a:off x="74520" y="1063800"/>
            <a:ext cx="4783320" cy="589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229360" y="1852560"/>
            <a:ext cx="38289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xima es 83 g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ínima es 66 g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y una br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ce c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lue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orded Sound" descr=""/>
          <p:cNvPicPr/>
          <p:nvPr/>
        </p:nvPicPr>
        <p:blipFill>
          <a:blip r:embed="rId2"/>
          <a:stretch/>
        </p:blipFill>
        <p:spPr>
          <a:xfrm>
            <a:off x="8775720" y="657540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3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8:42:53Z</dcterms:created>
  <dc:creator>Sarah Peterson</dc:creator>
  <dc:description/>
  <dc:language>en-US</dc:language>
  <cp:lastModifiedBy>Sarah Peterson</cp:lastModifiedBy>
  <dcterms:modified xsi:type="dcterms:W3CDTF">2010-09-09T18:43:14Z</dcterms:modified>
  <cp:revision>1</cp:revision>
  <dc:subject/>
  <dc:title>El tiempo de Hutchinson, KS el nueve de septiembre</dc:title>
</cp:coreProperties>
</file>